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30F-5F62-4C4D-8557-C776ED273C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419D-1562-4859-BE2B-3907D934A4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0C1-CFFC-4691-A1D7-5F7D0F34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019-DC00-4857-8008-8B3A262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CAA10-4309-42EE-9C35-69A8C40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33BC8-81C5-4D10-97E5-AC091F6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683DB-1573-4852-A42F-DB43D0B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320C6-749D-4757-9A4D-F1C802C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FBBD-5F5A-4446-A668-F2AAF8B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56882-8963-4EE3-8239-668D8CD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C5A38-5154-4DDE-80F0-EBBEE7A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3B48-D517-4EC2-8AC1-2AD0EF3F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F83E2-388F-4350-A098-170BE54E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CE7F-CC49-464A-ABA5-D1AFC447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1C2-5460-4F6C-8F79-4FBC23E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7D079-EBA8-435F-BC35-415EB58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F39B3-91CE-4185-BE33-4B22242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1244-12CD-4981-84C3-1F5EB597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198ED-EA4B-4507-BCBD-EE726E3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3B835-8C03-4C14-9EE5-4C277B9D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4A49C-C82D-4D75-AC11-A2C5A0B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B22AE-0B2B-45F0-9BF0-376FFF5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3B471-1FBF-4430-BE23-716E5A4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75749-C9D4-4D46-B8BA-AAF5F04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2BBE7-6FD4-461E-A642-6BE3C2D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FFE-9625-4260-95AC-E0C819EF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9596D-0B7C-4562-BCAD-C24FCAA6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B30DA-DC03-4B64-B45C-55C698B5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73059-2099-4A83-91E9-953F1CDC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9CB0-3BB3-4DBA-B439-1C0D63D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A0C75-123D-4E1A-9F64-4B46B71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EF0DD-D3C0-4228-BA99-B1216A85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E087A-2B1A-48F2-B05E-B2E33493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BFE20-DB6D-4AB0-8809-DC9D204D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2966-FAC1-43F0-A243-EA77718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80A61-D5AC-4B5E-A84D-0364160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146-8AAD-4037-B2EF-5AD51BF2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E87F5-E08D-4C77-94B1-73A5D79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83199-415A-4A63-9141-AA1D9923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3DA54-E872-4B73-8617-F599F13A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31414-DE7E-4692-89F9-BE63F9CC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4B9D8-2781-452E-83E9-FCF004C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03327-0D8C-4381-BFC2-984B19F4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4DEED-4302-4604-AE17-FD4DF41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C73E5-E033-49C6-9E7C-12957AA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C074D-1499-44F2-A1DF-B7CE0772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9E356-C470-403C-85CE-279D32A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BCBB-A549-432B-BB9A-D49E3C0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B633D-B69D-45C1-8559-50BDBCF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8A88C-DF32-4308-AE57-2357765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41154-3DDD-4A46-8416-4025F28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AF229-B492-4F02-9CDF-9CCAED27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C5D75-55C1-4AB1-9FEE-9BF03B10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A8E3F-6DA6-449E-BB52-9753590A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DB3C6-643B-4E17-9139-83FEB215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F186D-41F8-44A5-A695-0A29F90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7D6FD-D4F8-4E0A-96CD-A8C74935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21244-4911-4DBD-B844-3BE8894B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40A3-D97A-492C-B253-A128B07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5DDBE-86B7-48B0-8248-3C698005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4815D-6043-4939-A6F0-C0CF59E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68128-BAF6-4740-A0AB-256C80E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5CC74-FE65-4DE1-A9FA-FCE12FE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94603-8594-4223-B8C7-4A891EA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F808F-84AF-48AD-ACEC-9CD79F04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DE07E-ACAE-430D-B180-7BE03075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BAE4-A6E6-4A38-A8F0-B03003B8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230-7FF5-4413-A586-5AA31E6A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32CC-9EA6-467E-B9C3-FFA3F43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04C0-2F4D-4B25-BE8B-A1C059E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89E-1465-4D8A-A289-65BD29E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539D-6D88-4333-BDFA-A041A58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4A2-7289-41DD-B8F7-C17E684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C2A-633C-4D6F-83FD-9EEB1E7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EA1C-FCD3-4CD9-AB8D-539131BF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A352-1D03-4DD9-88F2-C15A53C2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0520-7907-47F8-A48C-C9FDF55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38AD-8A25-4266-8FD5-D806BD2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1CAC-4B77-45EA-A84A-B6A0DB0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E1AB-002D-419D-8484-E7FC222F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99F2-5D35-4F27-B61B-BDFFB331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F1D-43BD-41EC-8855-CE47ABB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D381-21AC-47EA-9AA3-371DC47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7B46-354B-43CD-937D-C44E9BE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63A4-4C34-4E84-AEAE-D260FB93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D099-D43F-4831-8F61-603B118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7FF1-ADF4-4C11-9FE6-D47214E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16CE-FDA3-4118-A044-40A6C49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42D7-3042-4C12-B0E6-1A49DBBC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4D52-47F2-4780-BF06-14202770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BD25-EBC8-4BBC-A9C8-729FE4DA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80CD-0482-427F-93DD-5EF578C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BCA-6575-4340-AED9-66896EE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3DB2-BEC7-4A3C-8806-DBE5DBC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CCCA-62EB-4B26-80A0-70D066F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9890-B08B-488D-92BA-FAD7736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2472-415D-4F76-8CA2-B149995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2062-957B-40E4-B4C9-D57407E8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8FCE-312C-44C7-B019-60D3E9F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6608-5127-499F-AE1F-583E9088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4694E-3B71-4B94-AC8A-6101D76B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D8ED-1DC3-438A-9052-5955FAA2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1ADF-4BCF-47FF-9E98-A3F358EF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14E-8097-4C55-91A9-435A18A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C916-3495-4764-9EA1-2EE57AD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A442-31CE-4A33-A4E5-845FA16D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3D8E-CDAD-4293-8C10-007C69D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0D43-381F-4D60-919C-B23BECD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10B2-9F26-4408-A0A3-8DB8AD0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764A-DB2E-4879-B80D-E70660A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477E-BD3B-41F9-92EB-CCD4503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A194-0E64-4E9A-A0C4-44A10DC4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70820-656D-408B-B849-D26EABB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350A-D611-4346-B62E-016E2684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0FC-E215-4765-BCE7-3D433D8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5428-B74A-4088-80A2-CAF0BA0E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239D-680D-4841-ACFE-FC3A7B86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69C4-23D9-44FF-A626-C5B2D3E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A4FE-F1C9-49C0-9A4E-7B4834A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1734-8FA4-4990-BE16-77006915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7174-BB7C-43C2-8BF1-7DDE536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EDBC-5F10-4B14-A60F-8734AFA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3DD0-6ABC-4D51-89F0-D109F67F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2E00-5766-4161-87A8-29DBE41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61F5-1DA7-46FA-A40E-9A057BF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6F0-37A2-483E-98E1-7AE8DC7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BE64-C139-4725-9AD0-A639680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93D8-3E62-4C8A-AA6F-A43414AF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D6FE-0734-4E36-AD39-EE8C0246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0D30-1550-4C23-A825-C0D4404C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1162-56C8-49AC-BA1C-3B9AC5A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6BF3-9DB1-404B-BF9D-B935B9A0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64AF-F62C-4290-BCAB-1FCF85C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3DA9E-7A97-463A-BC9A-AE59C9D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3F19F-FD22-4A69-BD8A-2BFAC858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0B3DD-4FE8-4620-8377-BAF0A39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011-D390-4E8A-A3C0-92119E7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92AC-5795-46AD-9C7B-1608BAF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5E35-E20A-4DE0-9471-61911A1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F6BB-6889-4661-81A9-3FE4A02A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736F6-4764-4D3B-A53B-01F57DF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5594B-5450-4746-A296-B70136FD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1F72F-D573-4957-9767-1E200559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DD797-E11A-4DCF-832F-664F81C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CA7B3-9681-4AAE-AD20-395319D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16D1-B8FD-4A34-A930-068D612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5D31-3845-4203-A2FD-36EC8132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31F-32D7-4179-B9A8-348D8D2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31280" y="439560"/>
            <a:ext cx="6000840" cy="81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65D6-6C5B-4CED-AF63-C1FB2CC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40963-5B6E-4C83-8EF0-192F769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55D9A-C448-46D9-84CF-F0E49D1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114B-86FD-4F5C-86BE-F057709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4280" y="5795280"/>
            <a:ext cx="60008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1E6C7-2BFF-49C2-9E1E-03FA898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79400" y="257616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0428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479400" y="5795280"/>
            <a:ext cx="292824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7100F-8549-4D22-9044-41A74A08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43324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462560" y="257616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0428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243324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4462560" y="5795280"/>
            <a:ext cx="1932120" cy="29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FE25D-AB69-4ADF-84F9-19E79640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FFE4-030D-4200-8BA2-8D05C747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E2383-E827-483D-8124-A4C334A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6DE2E-C446-4641-BDD6-C9078D40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B2A3-3414-4250-8B81-BB65E64419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43C6-3B9A-4884-A047-83472CE4A5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D803-5A0C-432F-A44B-C59626FC0E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3B2C-D144-448E-A6C6-CCEF3769BB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BFD-475F-43BA-99C7-4CDF503C93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514440" y="3457440"/>
            <a:ext cx="5829120" cy="158760"/>
          </a:xfrm>
          <a:custGeom>
            <a:avLst/>
            <a:gdLst>
              <a:gd name="textAreaLeft" fmla="*/ 0 w 5829120"/>
              <a:gd name="textAreaRight" fmla="*/ 5829480 w 58291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710-CE31-4078-ABDB-3CBE68C6D5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0E4-2F38-4905-A8AF-32DB8E9428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DB8-2CD0-4705-B63D-A36F840998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751B-9C51-4C72-9E19-D091F7699D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DE0-4760-44E0-AF38-32844208A3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9CFD-47D3-4CB2-8E7E-88C70B73E7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9A6D-BE5F-4495-92C6-6BE248E93C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4"/>
          <p:cNvSpPr/>
          <p:nvPr/>
        </p:nvSpPr>
        <p:spPr>
          <a:xfrm>
            <a:off x="457200" y="2263680"/>
            <a:ext cx="5969160" cy="157320"/>
          </a:xfrm>
          <a:custGeom>
            <a:avLst/>
            <a:gdLst>
              <a:gd name="textAreaLeft" fmla="*/ 0 w 5969160"/>
              <a:gd name="textAreaRight" fmla="*/ 5969520 w 596916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57200" y="89154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4869000" y="9009000"/>
            <a:ext cx="1477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امیررضا طبیب حوی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0" y="-360"/>
            <a:ext cx="1486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8847-8740-42E6-A029-526D205BF6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cs typeface="B Mitra"/>
              </a:rPr>
              <a:t>صفحه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  <a:ea typeface="B Mitra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llegeprozheh.ir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14440" y="1429920"/>
            <a:ext cx="582912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نسورهای بدون تما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6640" y="4592160"/>
            <a:ext cx="520848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Verdana"/>
              </a:rPr>
              <a:t>تدوین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Verdana"/>
                <a:ea typeface="B Koodak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  <a:cs typeface="B Mitra"/>
              </a:rPr>
              <a:t>علي قاسم زاد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  <a:cs typeface="B Mitra"/>
              </a:rPr>
              <a:t>كاربرد ابزار دقيق وكنتر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Verdana"/>
                <a:cs typeface="B Mitra"/>
              </a:rPr>
              <a:t>زیر نظر استاد محتر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Verdana"/>
                <a:cs typeface="B Mitra"/>
              </a:rPr>
              <a:t>آقای مهندس طوسي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421000" y="992160"/>
            <a:ext cx="1666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00000"/>
                </a:solidFill>
                <a:latin typeface="Verdana"/>
                <a:cs typeface="B Davat"/>
              </a:rPr>
              <a:t>بنام خدا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357200" y="2023920"/>
            <a:ext cx="4000680" cy="7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ea typeface="Tahoma"/>
                <a:hlinkClick r:id="rId1"/>
              </a:rPr>
              <a:t>www.collegeprozheh.ir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   </a:t>
            </a:r>
            <a:r>
              <a:rPr b="0" lang="fa-IR" sz="2000" spc="-1" strike="noStrike">
                <a:solidFill>
                  <a:srgbClr val="ff0000"/>
                </a:solidFill>
                <a:latin typeface="Tahoma"/>
                <a:cs typeface="Tahoma"/>
              </a:rPr>
              <a:t>کالج پروژ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933-A642-4B92-A4BE-03CC77F516C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 القايی سرع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سنسورهايی هستند که به منظور اندازه گيری سرعت از آن ها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ستفاده می شود .خروجی اين سنسورها سلفی می باشد و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تغييرات ميدان به صورت پالس هايی در خروجی ظاه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م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شوند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کاربرد : اندازه گيری سرعت موتور، لوکوموتيو،چرخ دنده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پمپ ، توربين 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59B6-8D9B-4282-9D14-B1368AE08ED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های خازن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سنسورهای بدون تماس و بدون کنتاکت الکتريکی اند که د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مقابل فلزات و اغلب غير فلزات عمل می نماين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ACF1-5FDE-4676-A17B-E6CE5EE388E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800" spc="-1" strike="noStrike">
                <a:solidFill>
                  <a:srgbClr val="000000"/>
                </a:solidFill>
                <a:latin typeface="Verdana"/>
              </a:rPr>
              <a:t>عملکر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ين سنسورها از قسمت های زير تشکيل شده اند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سيلاتو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دمدولاتو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شميت تريگ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تقويت خروج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77E-B432-4FE2-A70C-E206954A132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شرح عملکر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قسمت اساسی اسيلاتور از دوقطعه فلزی تشکيل شده ، وضعيت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قرارگيری اين قطعات نسبت به هم طوری است که باعث ايجاد يک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ظرفيت خازنی می شود . هرگاه قطعه ای با ضريب دی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لکتريک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به صفحه حساس نزديک گردد باعث تغيير ظرفيت خازنی بين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صفحات می شود . اين تغيير ظرفيت خازنی باعث تغيير دامنه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خروجی اسيلاتور می شود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دمدولاتور دامنه اسيلاتور را آشکار می کند و اين مقدار را با سطح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مرجع مقايسه می نمايد . هرگاه دامنه اين مقدار از دامنه مرجع بيشترباشد ، خروجی سنسور تحريک می شود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در عملکرد سنسورهای خازنی عواملی مانند رطوبت هوا ، گرد و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غبار و غيره بر فاصله سوئيچينگ تاثير می گذارد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6F1A-D939-4495-B2D7-EB3401A5C57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Verdana"/>
              </a:rPr>
              <a:t>فاصله سوئيچينگ به نوع </a:t>
            </a:r>
            <a:r>
              <a:rPr b="0" lang="ar-SA" sz="3400" spc="-1" strike="noStrike">
                <a:solidFill>
                  <a:srgbClr val="ff0000"/>
                </a:solidFill>
                <a:latin typeface="Verdana"/>
              </a:rPr>
              <a:t>قطعه</a:t>
            </a:r>
            <a:r>
              <a:rPr b="0" lang="ar-SA" sz="3400" spc="-1" strike="noStrike">
                <a:solidFill>
                  <a:srgbClr val="000000"/>
                </a:solidFill>
                <a:latin typeface="Verdana"/>
              </a:rPr>
              <a:t> بستگی دارد و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Verdana"/>
              </a:rPr>
              <a:t>مهمترين ضرايب تصحيح عبارتند ا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51000" y="2455920"/>
          <a:ext cx="6172200" cy="5654520"/>
        </p:xfrm>
        <a:graphic>
          <a:graphicData uri="http://schemas.openxmlformats.org/drawingml/2006/table">
            <a:tbl>
              <a:tblPr/>
              <a:tblGrid>
                <a:gridCol w="3085920"/>
                <a:gridCol w="308628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نوع قطع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ضريب تصحيح</a:t>
                      </a:r>
                      <a:r>
                        <a:rPr b="1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 (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KM</a:t>
                      </a:r>
                      <a:r>
                        <a:rPr b="1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فل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آ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چو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6/0-2/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PV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6/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شیش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5/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cs typeface="B Nazanin"/>
                        </a:rPr>
                        <a:t>روغ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000000"/>
                          </a:solidFill>
                          <a:latin typeface="Verdana"/>
                          <a:ea typeface="B Nazanin"/>
                        </a:rPr>
                        <a:t>1/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Rectangle 53"/>
          <p:cNvSpPr/>
          <p:nvPr/>
        </p:nvSpPr>
        <p:spPr>
          <a:xfrm>
            <a:off x="243000" y="7967520"/>
            <a:ext cx="6172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Verdana"/>
                <a:cs typeface="B Mitra"/>
              </a:rPr>
              <a:t>کاربرد: </a:t>
            </a:r>
            <a:r>
              <a:rPr b="0" lang="ar-SA" sz="2500" spc="-1" strike="noStrike">
                <a:solidFill>
                  <a:srgbClr val="000000"/>
                </a:solidFill>
                <a:latin typeface="Verdana"/>
                <a:cs typeface="B Mitra"/>
              </a:rPr>
              <a:t>شمارش توليد ، کنترل سطح مخازن ، کنترل حرکت پارچ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Rounded Rectangle 31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ounded Rectangle 33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408-9175-4300-85CF-E0970E22518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نکا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هنگام تنظيم سنسورهای خازنی به اين نکته توجه شود که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فاصله سوئيچينگ اين سنسورها هنگامی که قطعه فلزی د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مقابل سنسور قرار می گيرد نبايد بيشتر از مقدار نامی آن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که در مشخصات ذکر شده است باش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فاصله سوئيچينگ سنسورهای خازنی توسط پتانسيومت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قابل تنظيم است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838-7B58-42D8-8D45-F7FC56A3D08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خازنی کنترل سط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به منظور تشخيص کنترل وجود مواد در مخازن فلزی به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کار گرفته می شود . بين ميله پروب و بدنه فلزی مخزن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وجود دارد هر گاه به علت وجود مواد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 ظرفيت خازن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ظرفيت خازنی افزايش می يابد و از مقدار معينی فرات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رود خروجی سنسور که به صورت کنتاکت رله می باشد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فعال خواهد ش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172-999D-450C-A496-1C3FA878E22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انواع سنسورهای خازنی کنترل سط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پروب روکش دار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برای مواد هادی جريان الکتريسيته مانند آب ، اکسيد آهن، اکسيد آلومينيوم و . .. مناسب می باش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پروب بدون روکش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برای موادی با مقاومت الکتريکی بالا مانند سيمان ، گچ، انواع روغن ، گرانول های پلاستيکی ، خاک چينی و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پودر سراميک مناسب می باش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EA9-358D-494E-B8BE-054CD2CF8AC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Verdana"/>
              </a:rPr>
              <a:t>سنسور مغناطیس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ين سنسورها در مجاورت ميدان مغناطيسی عمل م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نمايند.هرگاه يک قطعه آهنربا در مقابل اين سنسو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قرارگيرد کنتاکت آن عمل خواهد کرد.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هر گاه با سلفی به آن متصل گردد جهت حفاظت و عم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طولانی بهتر است از ترکيب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ستفاده شو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100" spc="-1" strike="noStrike">
                <a:solidFill>
                  <a:srgbClr val="000000"/>
                </a:solidFill>
                <a:latin typeface="Verdana"/>
              </a:rPr>
              <a:t>کاربرد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تشخيص و کنترل سطح مايعات ، تشخيص موقعيت پيستون در داخل سيلندر، اندازه گيری سرع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071-B567-422A-9866-C41CE6B0F0F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 کد رن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به منظور تشخيص کد های رنگی روی لفافه های بسته بندی از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آن استفاده می شود .اساس کار اين سنسورها ارسال نور سفيد و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دريافت نور منعکس شده از کاغذ بسته بندی است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نکته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خروجی اين سنسورها به صورت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SH-PULL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 می باشد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يعنی به صورت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PN,PNP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قابل استفاده می باشد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حساسيت به رنگ های مختلف توسط پتانسيومتر روی سنسور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قابل تنظيم است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ريپل تغذيه نبايد بيشتر از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١٠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 % باشد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سنسور کد رنگ مدل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برای لفافه های شفاف مانند سلفون و</a:t>
            </a:r>
            <a:r>
              <a:rPr b="0" lang="fa-I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نايلون و... استفاده می شود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E3C-0B46-4729-A925-6605701483B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مزاياي سنسورهاي بدون تما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١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سرعت سوئيچينگ بالا: در مقايسه با کليدهاي مكانيكي ا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سرعت بالايي برخوردارن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٢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طول عمر زياد : بدليل نداشتن کنتاکت مكانيكي و عدم نفو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آب ، روغن و گردوغبار داراي طول عمر زيادي هستن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٣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عدم نياز به نيرو وفشار : با توجه به عملكرد سنسور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هنگام نزديك شدن به نيرو وفشار نياز نيست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۴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عدم ايجاد نويز در هنگام سوئيچينگ : به دليل استفاده ازنيمه هادي ها در طبقه خروجي نويزهاي مزاحم ايجاد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نمي شو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Rounded Rectangle 5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F3B1-FD17-47F2-880F-BDD23120BF9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برخي </a:t>
            </a:r>
            <a:r>
              <a:rPr b="0" lang="fa-IR" sz="3800" spc="-1" strike="noStrike">
                <a:solidFill>
                  <a:srgbClr val="000000"/>
                </a:solidFill>
                <a:latin typeface="Verdana"/>
              </a:rPr>
              <a:t>ک</a:t>
            </a:r>
            <a:r>
              <a:rPr b="0" lang="ar-SA" sz="3800" spc="-1" strike="noStrike">
                <a:solidFill>
                  <a:srgbClr val="000000"/>
                </a:solidFill>
                <a:latin typeface="Verdana"/>
              </a:rPr>
              <a:t>اربرده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١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شمارش توليد : القايي ، خازني ، نور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٢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نترل سطح مخازن : خازني، نوري، خازني 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نترل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سط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٣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اندازه گيري سرعت : القايي ، نور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۴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ک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نترل تردد : نور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۵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. اندازه گيري فاصله قطعه : القايي آنالو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ounded Rectangle 4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6" name="Rectangle 6" descr=""/>
          <p:cNvPicPr/>
          <p:nvPr/>
        </p:nvPicPr>
        <p:blipFill>
          <a:blip r:embed="rId1"/>
          <a:stretch/>
        </p:blipFill>
        <p:spPr>
          <a:xfrm>
            <a:off x="281160" y="6802560"/>
            <a:ext cx="3041640" cy="203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50C-870F-43AA-8C97-D027F94B98F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مفاهيم اصل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25160" y="2532240"/>
            <a:ext cx="6000840" cy="62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رکانس سوئيچينگ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حداکثر تعداد قطع و وصل يک سنسور در ثانيه می باشد .(واحد آن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باشد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اصله سوئيچينگ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بين قطعه استاندارد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و سطح حساس سنسور به هنگام عمل سوئيچينگ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باش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اصله سوئيچينگ نامی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n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ای که در ح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ال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ت متعارف و بدون در نظر گرفتن پارامترهای متغير از قبيل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رجه حرارت ، ولتاژ تغذيه و ... تعريف شده است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اصله سوئيچينگ موثر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r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سوئيچينگ تحت شرايط ولتاژ نامی و حرارت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 می باشد.در اين حالت تلرانس ها و پارامترهای متغير نيز در نظر گرفته شده اس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.9Sn&lt;Sr&lt;1.1S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C2D5-6700-4394-AFEF-33533AEE261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مفاهيم اصل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اصله سوئيچينگ مفيد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i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ای است که در رنج حرارت و ولتاژ مجاز، عمل سوئيچينگ انجام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شود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.81Sn&lt;Su&lt;1.21S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فاصله سوئيچينگ عملياتی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ای که تحت شرايط مجاز، عملکرد سنسور گارانتی شده اس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&lt;0.81S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هيسترزيس 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ar-SA" sz="21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fa-IR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فاصله بين نقطعه وصل شدن (هنگام نزديک شدن به سنسور) و نقطعه قطع شدن (هنگام دور شدن از سنسور) می باشد. حد اکثر اين مقدار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١٠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 % فاصله نام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می باش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ولتاژ تغذيه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حداکثر و حداقل ولتاژی است که در آن محدوده سنسور عملکرد مطمئنی خواه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اش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E2C5-3689-41E8-83D5-8DC0D3E43AD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مفاهيم اصل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ريپل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عبا رتست از جزء متناوب سيگنال ولتاژ يکسو شده خروجی منبع تغذيه که حداکث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مقدار مجاز آن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١٠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 % ولتاژ تغذيه می باش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جريان نشتی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جريانی که از سنسورهای دوسيمه در حالت قطع عبور می نماي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جريان بی باری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جريانی است که در حالت اتصال سيم های تغذيه سنسوربه منبع تغذيه ازآن عبو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می نماي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جريان بار ماکزيمم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حداکثر جريان پيوسته می باشد که از خروجی سنسور می توان عبور داد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افت ولتاژ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حداکثر ولتاژ طبقه خروجی سنسور که در حالت سوئيچ می باشد و جريا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مجاز از آن عبور می کند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1F1E-8725-47E8-B0FC-5E69F477D87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توابع خروجی سنسوره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نرمال باز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ر حالت عادی ، خروجی سنسور قطع می باشد و در زمانی که قطعه در مقا بل سنسور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قرار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گيرد خروجی سنسور از حالت قطع به حالت وصل تغيير وضعيت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ه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نرمال بسته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ر حالت عادی ، خروجی سنسوروصل می باشد و در زمانی که قطعه در مقابل سنسور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قرار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گيرد خروجی سنسور از حالت وصل به حالت قطع تغيير وضعيت می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‌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ه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مکمل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اين نوع سنسورها دارای دو نوع خروجی نرمال باز و نرمال بسته می باشن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سنسور آنالوگ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در اين نوع سنسورها خروجی به صورت ولتاژ و يا جريان پيوسته بوده و تابع فاصله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قطعه از سنسور می باش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Verdana"/>
              </a:rPr>
              <a:t>سنسور نامور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سنسورهای دو سيمه هستند که جريان آن متناسب با فاصله قطعه از سنسور تغيير می کن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fa-I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000000"/>
                </a:solidFill>
                <a:latin typeface="Verdana"/>
              </a:rPr>
              <a:t>به عبارت ديگر می توان گفت مقاومت داخلی سنسور تغيير می کن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DC1-988A-4428-BD1A-0909BABC513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های القاي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ز سنسورهای بدون تماس هستند که تنها در مقابل فلزات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عکس العمل نشان می دهند و می توانند فرمان مستقيم به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رله ، شيربرقی ، سيستم های اندازه گيری و مدارات کنترل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لکترونيکی ارسال نماين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857-2952-4567-9D68-F0346DF63F7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عملکر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ين سنسورها از قسمت های زير تشکيل شده اند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سيلاتو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دمدولاتو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اشميت تريگ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تقويت خروج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5"/>
          <p:cNvSpPr/>
          <p:nvPr/>
        </p:nvSpPr>
        <p:spPr>
          <a:xfrm>
            <a:off x="458640" y="9009000"/>
            <a:ext cx="1486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2F27-D36F-43FE-BDC2-706A6A8AAEB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0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cs typeface="B Mitra"/>
              </a:rPr>
              <a:t>صفحه</a:t>
            </a:r>
            <a:r>
              <a:rPr b="0" lang="fa-IR" sz="1800" spc="-1" strike="noStrike">
                <a:solidFill>
                  <a:srgbClr val="000000"/>
                </a:solidFill>
                <a:latin typeface="Verdana"/>
                <a:ea typeface="B Mitra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31280" y="439560"/>
            <a:ext cx="60008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Verdana"/>
              </a:rPr>
              <a:t>سنسور القايی آنالو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04280" y="2576160"/>
            <a:ext cx="6000840" cy="61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سنسورهايی که در مقابل فلزات عکس العمل نشان میدهند. اين عکس العمل به صورت ولتاژ و يا جريان خطی</a:t>
            </a:r>
            <a:r>
              <a:rPr b="0" lang="fa-I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در خروجی ظاهر می شود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کاربرد : اندازه گيری فاصه از قطعه، جدا سازی قطعات با ابعاد مختلف ، اندازه گيری ضخامت قطعات فلز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Rounded Rectangle 5"/>
          <p:cNvSpPr/>
          <p:nvPr/>
        </p:nvSpPr>
        <p:spPr>
          <a:xfrm>
            <a:off x="4929120" y="9096480"/>
            <a:ext cx="1500120" cy="285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ounded Rectangle 7"/>
          <p:cNvSpPr/>
          <p:nvPr/>
        </p:nvSpPr>
        <p:spPr>
          <a:xfrm>
            <a:off x="4929120" y="9096480"/>
            <a:ext cx="15001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Verdana"/>
              </a:rPr>
              <a:t>علي قاسم زاد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3:58:35Z</dcterms:created>
  <dc:creator>Payman</dc:creator>
  <dc:description/>
  <dc:language>en-US</dc:language>
  <cp:lastModifiedBy>sina co</cp:lastModifiedBy>
  <dcterms:modified xsi:type="dcterms:W3CDTF">2017-02-19T20:00:20Z</dcterms:modified>
  <cp:revision>59</cp:revision>
  <dc:subject/>
  <dc:title>سنسورهای بدون تماس</dc:title>
</cp:coreProperties>
</file>